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25B4-CAAE-425D-A7BA-52FAB03A6F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7979-FBF5-4BA8-B0F8-65F016FA1A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38480" y="-360"/>
            <a:ext cx="51055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543800" y="6019920"/>
            <a:ext cx="1447920" cy="601560"/>
          </a:xfrm>
          <a:prstGeom prst="rect">
            <a:avLst/>
          </a:prstGeom>
          <a:ln w="0">
            <a:noFill/>
          </a:ln>
        </p:spPr>
      </p:pic>
      <p:sp>
        <p:nvSpPr>
          <p:cNvPr id="2" name="Line 12"/>
          <p:cNvSpPr/>
          <p:nvPr/>
        </p:nvSpPr>
        <p:spPr>
          <a:xfrm>
            <a:off x="914400" y="6095880"/>
            <a:ext cx="6324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23560"/>
            <a:ext cx="8686800" cy="316548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PROGETTO</a:t>
            </a:r>
            <a:br>
              <a:rPr sz="4400"/>
            </a:br>
            <a:r>
              <a:rPr b="1" lang="it-IT" sz="1500" spc="-1" strike="noStrike">
                <a:solidFill>
                  <a:srgbClr val="ff9900"/>
                </a:solidFill>
                <a:latin typeface="Arial"/>
              </a:rPr>
              <a:t>-</a:t>
            </a:r>
            <a:br>
              <a:rPr sz="4400"/>
            </a:b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660760" y="4325760"/>
            <a:ext cx="3822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CasellaDiTesto 1"/>
          <p:cNvSpPr/>
          <p:nvPr/>
        </p:nvSpPr>
        <p:spPr>
          <a:xfrm>
            <a:off x="457200" y="12952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enitore accede al portale genitori (link presente su sito comu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accede per la prima volta dovrà effettuare il processo di registrazione creando il proprio username e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già utilizza il portale genitori (o l’app Spazio scuola) potrà utilizzare le stesse credenzi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 periodo di apertura iscrizioni il genitore troverà attiva una funzionalità in più che è quella d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crizioni On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magine 1" descr=""/>
          <p:cNvPicPr/>
          <p:nvPr/>
        </p:nvPicPr>
        <p:blipFill>
          <a:blip r:embed="rId2"/>
          <a:srcRect l="1666" t="13371" r="-1663" b="39198"/>
          <a:stretch/>
        </p:blipFill>
        <p:spPr>
          <a:xfrm>
            <a:off x="457200" y="3581280"/>
            <a:ext cx="83818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4" name="Rettangolo 4"/>
          <p:cNvSpPr/>
          <p:nvPr/>
        </p:nvSpPr>
        <p:spPr>
          <a:xfrm>
            <a:off x="228600" y="12985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iccando su «Iscrizioni Online» il genitore potrà scegliere tra i servizi configurati a sistema (MENSA SCOLASTICA, MENSA NIDO, TRASPORTO, PRESCUOLA) e dovrà selezionare quello per cui vuole effettuare l’iscr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1" descr=""/>
          <p:cNvPicPr/>
          <p:nvPr/>
        </p:nvPicPr>
        <p:blipFill>
          <a:blip r:embed="rId2"/>
          <a:srcRect l="2498" t="21841" r="4167" b="14429"/>
          <a:stretch/>
        </p:blipFill>
        <p:spPr>
          <a:xfrm>
            <a:off x="228600" y="2362320"/>
            <a:ext cx="85345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ttangolo 1"/>
          <p:cNvSpPr/>
          <p:nvPr/>
        </p:nvSpPr>
        <p:spPr>
          <a:xfrm>
            <a:off x="304920" y="114300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3" descr=""/>
          <p:cNvPicPr/>
          <p:nvPr/>
        </p:nvPicPr>
        <p:blipFill>
          <a:blip r:embed="rId2"/>
          <a:srcRect l="3331" t="18878" r="5000" b="7018"/>
          <a:stretch/>
        </p:blipFill>
        <p:spPr>
          <a:xfrm>
            <a:off x="304920" y="2362320"/>
            <a:ext cx="838188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7"/>
          <p:cNvSpPr/>
          <p:nvPr/>
        </p:nvSpPr>
        <p:spPr>
          <a:xfrm>
            <a:off x="268200" y="1143000"/>
            <a:ext cx="861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servizio viene data la possibilità di allegare dei documenti in PDF a propria scelta (Es. regolamento, dichiarazione privacy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documento è possibile scegliere se va inserita una spunta per conferma di avvenuta lettura e/o accet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Immagine 1" descr=""/>
          <p:cNvPicPr/>
          <p:nvPr/>
        </p:nvPicPr>
        <p:blipFill>
          <a:blip r:embed="rId2"/>
          <a:srcRect l="2498" t="31988" r="3334" b="17392"/>
          <a:stretch/>
        </p:blipFill>
        <p:spPr>
          <a:xfrm>
            <a:off x="114480" y="2274840"/>
            <a:ext cx="883908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5"/>
          <p:cNvSpPr/>
          <p:nvPr/>
        </p:nvSpPr>
        <p:spPr>
          <a:xfrm>
            <a:off x="114480" y="119376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ELTA DEL FIGLIO DA ISCRIV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già presente nel database posso sceglierlo nell’elen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è nuovo, posso o inserirlo richiamando l’anagrafe oppure inserendo senza ricercarlo nella banca dati dell’anagrafe, basterà cliccare sui relativi pulsa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6"/>
          <p:cNvSpPr/>
          <p:nvPr/>
        </p:nvSpPr>
        <p:spPr>
          <a:xfrm>
            <a:off x="5483160" y="52466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anto ad ogni pagina è possibile personalizzare il testo di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7"/>
          <p:cNvCxnSpPr/>
          <p:nvPr/>
        </p:nvCxnSpPr>
        <p:spPr>
          <a:xfrm flipV="1">
            <a:off x="7238520" y="4419000"/>
            <a:ext cx="1080" cy="9910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67" name="Rettangolo 11"/>
          <p:cNvSpPr/>
          <p:nvPr/>
        </p:nvSpPr>
        <p:spPr>
          <a:xfrm>
            <a:off x="304920" y="52340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sono stati conclusi alcuni processi di iscrizione saranno elencati nella sezione «I tuoi documenti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9"/>
          <p:cNvCxnSpPr/>
          <p:nvPr/>
        </p:nvCxnSpPr>
        <p:spPr>
          <a:xfrm flipH="1" flipV="1">
            <a:off x="1752120" y="4648320"/>
            <a:ext cx="153360" cy="5986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Immagine 1" descr=""/>
          <p:cNvPicPr/>
          <p:nvPr/>
        </p:nvPicPr>
        <p:blipFill>
          <a:blip r:embed="rId2"/>
          <a:srcRect l="2498" t="17392" r="28333" b="8499"/>
          <a:stretch/>
        </p:blipFill>
        <p:spPr>
          <a:xfrm>
            <a:off x="584280" y="1712880"/>
            <a:ext cx="7162560" cy="431496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5"/>
          <p:cNvSpPr/>
          <p:nvPr/>
        </p:nvSpPr>
        <p:spPr>
          <a:xfrm>
            <a:off x="584280" y="880920"/>
            <a:ext cx="810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engono inseriti i dati anagrafici (prima del bambino, po, cliccando sul pulsante «AVANTI» posto in basso in tutte le schermate si passerà ad inserire i dati dell’Adulto1 (Quello che fa l’iscrizio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6"/>
          <p:cNvSpPr/>
          <p:nvPr/>
        </p:nvSpPr>
        <p:spPr>
          <a:xfrm>
            <a:off x="6324480" y="3227400"/>
            <a:ext cx="247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Se le anagrafiche sono già presenti nel database i campi verranno già presenti verranno precompilati ma sarà possibile modificarli. Se i dati provengono dall’anagrafe i campi non saranno editabili e non sono modificabi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6" name="Rettangolo 5"/>
          <p:cNvSpPr/>
          <p:nvPr/>
        </p:nvSpPr>
        <p:spPr>
          <a:xfrm>
            <a:off x="6235560" y="1076400"/>
            <a:ext cx="2679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pagina «DATI DEL SERVIZIO» è personalizzabile sulla base del servizio scelto e avrà un testo di help personalizzab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iene dato il costo del servizio (se necessario è possibile già fare inserire il valore ISEE per ottenere il calcolo della tariffa personalizza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’inoltre possibile richiedere alcune delle informazioni necessarie per la gestione ottimale del servi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magine 2" descr=""/>
          <p:cNvPicPr/>
          <p:nvPr/>
        </p:nvPicPr>
        <p:blipFill>
          <a:blip r:embed="rId2"/>
          <a:srcRect l="2498" t="18878" r="41669" b="5531"/>
          <a:stretch/>
        </p:blipFill>
        <p:spPr>
          <a:xfrm>
            <a:off x="185760" y="952560"/>
            <a:ext cx="600552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7"/>
          <p:cNvSpPr/>
          <p:nvPr/>
        </p:nvSpPr>
        <p:spPr>
          <a:xfrm>
            <a:off x="185760" y="5548320"/>
            <a:ext cx="870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In fase di configurazione è possibile impostare i campi come obbligatori o facoltativi e il programma segnala l’errore all’utente che non compila tutti i campi necessa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Immagine 1" descr=""/>
          <p:cNvPicPr/>
          <p:nvPr/>
        </p:nvPicPr>
        <p:blipFill>
          <a:blip r:embed="rId2"/>
          <a:srcRect l="2498" t="35482" r="35834" b="11161"/>
          <a:stretch/>
        </p:blipFill>
        <p:spPr>
          <a:xfrm>
            <a:off x="3276720" y="939960"/>
            <a:ext cx="563868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5"/>
          <p:cNvSpPr/>
          <p:nvPr/>
        </p:nvSpPr>
        <p:spPr>
          <a:xfrm>
            <a:off x="222120" y="140328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ll’ultima sezione viene chiesto di ricontrollare quanto dichiarato e di confermare le informazioni. Solo se si dichiara la veridicità dei dati si può procedere alla conferma della domanda di iscri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2" descr=""/>
          <p:cNvPicPr/>
          <p:nvPr/>
        </p:nvPicPr>
        <p:blipFill>
          <a:blip r:embed="rId3"/>
          <a:srcRect l="22500" t="16826" r="25831" b="7170"/>
          <a:stretch/>
        </p:blipFill>
        <p:spPr>
          <a:xfrm>
            <a:off x="212760" y="3657600"/>
            <a:ext cx="374328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Rettangolo 7"/>
          <p:cNvSpPr/>
          <p:nvPr/>
        </p:nvSpPr>
        <p:spPr>
          <a:xfrm>
            <a:off x="4052880" y="3962520"/>
            <a:ext cx="473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a volta confermato il dato apparirà la conferma della registrazione e il genitore verrà informato che gli verrà inviata una email con in allegato il modulo di iscrizione con tutti i dati da lui inseri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 DI ISCRIZIONE PER IL BAMBINO E IL SINGOLO SERVIZIO E’ CONCL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onasegale</dc:creator>
  <dc:description/>
  <dc:language>en-US</dc:language>
  <cp:lastModifiedBy>Valeria Mureddu</cp:lastModifiedBy>
  <cp:lastPrinted>2017-05-24T11:39:46Z</cp:lastPrinted>
  <dcterms:modified xsi:type="dcterms:W3CDTF">2017-12-19T12:08:12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